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B203-16E7-4FA8-ABDA-E942330A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2EB7-031C-4F94-A8B9-40247A0B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549-A146-4B92-A791-477E6D02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477-E648-4479-9E88-70CA4F27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120A-6DAE-40EF-BC89-E48480F0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35EE-CBD3-4D75-B957-75FCA1D9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2601-9828-4F07-B48C-9E42CF1B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B28-E8FE-4B12-A1F9-27C3625D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5FD3-B1EB-4EFB-A2E8-8485D590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C80-A5E4-4681-9BA0-61550B9F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363-413A-4B60-B92C-96EC8C1F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9465-EF2C-45BE-B62B-E3246FA5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B5DC-67D2-4D0F-AADC-65543AB5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EF38-C580-4BC4-B90B-BB4CBB27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BA20-2E18-4E06-BD1A-96D1BA2B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7B6-B51A-48D5-BA1F-4A8AB029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4BA-AC2D-403C-9186-6915273D7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826-FCA0-4469-934B-643B47713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005-F786-4101-B2A3-492F229E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1AD1-342B-4DB2-87F3-7F229BF8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5EC1-328E-4BC9-96DE-8429B17C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BA4E-567D-47F1-B842-ED985CC3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6950-A37A-4B5E-BC7A-E7637999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48FF-D0D6-44D6-8958-A54959AFB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5AB-996D-42C8-9502-F9C81646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66A3-3AD0-4075-A5FE-F4E3664E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DE8-AF15-4EFA-8145-966B6141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E714-F22B-4DB1-8F05-98D1EA4AE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432-215C-4393-A551-CF910DF2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1E9-1727-4DA3-BECE-01F6DDC4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FC6-1E08-4EED-95AE-86BB3E6C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8EA-7944-489E-9DA5-E7FB9CF8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DE7-742C-421E-8DD7-27336DFE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8D94-4C27-43A1-A8BA-0D333AC8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6390-EB82-43C3-853D-EE06A576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3526-CD32-42C2-B936-F8EC6E7C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78F-6D39-40F7-ADE1-C4B88EED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AF7-D517-44E5-86A7-25989912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09F1-DB62-43A6-9858-BF0AE6C9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3492-8EA8-4B88-9E1C-FED65AFF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ello. I’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am pleased to introduce this Professional Learning for Mathematics Leaders – not just a three-part series initiative – part of Math GAINS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have seen significant capacity building in 7-12 mathematics over the past few years, and we are beginning to see significant gains fo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 Just a 3-part PLMLC series” is designed to model successful approaches, provide practice opportunities, and inspire even greater gains in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88E-32A6-430B-90A8-DBF1EB5F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925-256B-4ECA-AD25-6B3B9EFB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C07-5459-4F05-9B4C-105A90AF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95D8-1DA1-4FF0-B262-401C5DEC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BED-158D-45D8-AD8D-7ABB1CC8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D61-C518-4BAA-BC9F-B250863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A78-A2D3-4604-9C3B-65985BEF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D81-2ACB-452D-ADDA-1273A9C8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CAE-56C2-4796-8CEB-722B078E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E8D-8EF2-4760-99DF-B87A4C17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553-80EC-41C4-AF07-4CC5553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EB8-0146-4C34-ABB0-69E9304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B59-3438-4041-99B9-35277D9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403-AD0D-4E60-A971-BC6FF7F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E4B-55B4-4BAE-B27F-89B34DD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240-5DA9-475C-851E-DB45402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03B-F30A-473E-9C59-FCDF0EF8B4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dugains.ca/newsite/math/coachformath.htm#Professional_Learning_for_Mathematics_Leaders_and_Coaches_&#8211;_not_just_a_3_part_series_&#8211;_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914400" y="4724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2303640" y="1125360"/>
            <a:ext cx="67132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360" y="5734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isa Suurtamm                                                           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2895480"/>
            <a:ext cx="741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426-62E7-4D02-BE6B-EC26912465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63640" y="1449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0308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4174-6FE6-446C-9662-62AEBBC444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63640" y="342900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2EF-AE4A-4FE8-9726-057DDF047A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00280"/>
            <a:ext cx="774072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3640" y="2241720"/>
            <a:ext cx="770076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A Big Idea is a statement of an idea that is central to the learning of mathematics..”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ndy Char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FD3E-4E59-4A31-99C1-C35B8E2B0C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905120"/>
            <a:ext cx="7416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“…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.one that connects numerous mathematical understandings into a coherent whol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n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0F5-DC93-4AD2-BD0D-F781D750AA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00800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2920" y="1557360"/>
            <a:ext cx="7416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396-278F-4E99-8817-761076FD96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16000" y="508464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t provides a lens in which to embed new lea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5280" y="9907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71640" y="1916280"/>
            <a:ext cx="7416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et of big ideas for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atterns and algeb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listed in the program booklet you’ve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0308"/>
                </a:solidFill>
                <a:latin typeface="Comic Sans MS"/>
              </a:rPr>
              <a:t>Take a few moments to read through these big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FAE-BB87-46B1-B380-E257CAE035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86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Comic Sans MS"/>
              </a:rPr>
              <a:t>Which of the Big Ideas do you think our minds-on activity relates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5280" y="1015920"/>
            <a:ext cx="84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34920" y="238428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minds-on activity relates to both BI 1 and BI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EBA2-6FEC-458A-9EC4-B7E530E6DC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represent identified regularities.  There is always an element of repetition that must be described for the pattern to be ext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s always repeat and you have to know how they repeat to exte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deas in other strands of mathematics are simplified by using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ften use patterns to learn ideas about number, geometry, measurement, an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549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Four Roya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160640"/>
            <a:ext cx="344808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0000" y="1089000"/>
            <a:ext cx="4464000" cy="429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981000"/>
            <a:ext cx="5364000" cy="4280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0000" y="1233360"/>
            <a:ext cx="59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: BI #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generalized mathematical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reasoning is a way to understand mathematical relationships that apply to a large group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, verbal, concrete/pictorial) or patterns highlight different characteristics or behaviours and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epresentations of relationships or patterns show different things about the relationship and each might be more useful in a certain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5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mathematical relationships or patterns helps us see that there are classes of relationships or patterns and provides insight into each member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ing mathematical relationships or patterns helps you see that groups of relationships can behave in very simila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6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nformation about a mathematical pattern or relationship can sometimes, but not always, allow us to predict other information about that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knowing a few things about a pattern or relationship allows you to predict other things about that pattern o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03280" y="101592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47640" y="2205000"/>
            <a:ext cx="788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126"/>
              </a:spcBef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oose one of those sets of question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tch each question to the big idea it is most likely to elic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4B0-0D42-4083-BB3A-F625EE4017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9528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71640" y="2276640"/>
            <a:ext cx="7416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3402-B289-41AE-82B8-F5C1B3588D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87280" y="99072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19280" y="2168640"/>
            <a:ext cx="7416720" cy="38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D15-EDD9-43C3-840B-61AB4E139D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3164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47640" y="2205000"/>
            <a:ext cx="788508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it’s important that students know that pattern rules need to be defined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D0AA-6612-4310-B858-56CACEF531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9072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47640" y="1952640"/>
            <a:ext cx="799308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think of other instances where number, geometry, measurement or data topics are taught using pattern concepts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e70308"/>
                </a:solidFill>
                <a:latin typeface="Comic Sans MS"/>
              </a:rPr>
              <a:t>Big Idea 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E49-956D-4280-94CE-5A3DA45976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981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2205000"/>
            <a:ext cx="81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how the notion of generalization? Analyzing relationships or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B6F-D8AB-49FA-83F3-654E90F30B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8424720" cy="4610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9810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47640" y="224172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roaden a student’s understanding of the value of multiple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FB1-89BD-4A9D-AB52-C89E796FA6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87280" y="9907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11280" y="2276640"/>
            <a:ext cx="792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lp broaden students’ ideas of what kinds of relationships there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6D2E-307E-4216-A914-7F218AE778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16000" y="9907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34920" y="2565360"/>
            <a:ext cx="741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a valuable one for student fo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0DF1-F32B-4DAC-A5C0-7B9C192F3E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B83-263F-4A04-B336-E75A77A2F4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42920" y="28526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309-A865-4E18-B15F-587E1A00F6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2205000"/>
            <a:ext cx="7417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thinking about the big ideas, it becomes easier to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develop appropriate less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goa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appropriate consolidating ques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ring them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8C4B-124C-4218-97CE-5E15516872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24360" y="1844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611280" y="5842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03280" y="1736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3B7-0122-46C5-9064-56E8B63A1D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871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792000" y="4292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940360" y="558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1"/>
          <p:cNvSpPr/>
          <p:nvPr/>
        </p:nvSpPr>
        <p:spPr>
          <a:xfrm>
            <a:off x="6408720" y="497664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own Arrow 15"/>
          <p:cNvSpPr/>
          <p:nvPr/>
        </p:nvSpPr>
        <p:spPr>
          <a:xfrm rot="16200000">
            <a:off x="4136760" y="343188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977080" y="3284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15"/>
          <p:cNvSpPr/>
          <p:nvPr/>
        </p:nvSpPr>
        <p:spPr>
          <a:xfrm rot="5400000">
            <a:off x="4496760" y="505116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08000" y="5589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81560" y="728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"/>
          <p:cNvSpPr/>
          <p:nvPr/>
        </p:nvSpPr>
        <p:spPr>
          <a:xfrm>
            <a:off x="576360" y="29700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amp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4788000" y="472428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99"/>
                </a:solidFill>
                <a:latin typeface="Arial"/>
              </a:rPr>
              <a:t>Students will recognize when a graphical model is more useful and when an algebraic on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250920" y="1341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ic: 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87280" y="188136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on:  Determine other representations of a linear relation, given one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11"/>
          <p:cNvSpPr/>
          <p:nvPr/>
        </p:nvSpPr>
        <p:spPr>
          <a:xfrm>
            <a:off x="5904000" y="393372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15"/>
          <p:cNvSpPr/>
          <p:nvPr/>
        </p:nvSpPr>
        <p:spPr>
          <a:xfrm rot="16200000">
            <a:off x="3795840" y="2692440"/>
            <a:ext cx="380880" cy="844560"/>
          </a:xfrm>
          <a:prstGeom prst="downArrow">
            <a:avLst>
              <a:gd name="adj1" fmla="val 50000"/>
              <a:gd name="adj2" fmla="val 26393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464000" y="1376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 4:  Different representations of relationships or patterns show different things about them and which is more useful depends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15"/>
          <p:cNvSpPr/>
          <p:nvPr/>
        </p:nvSpPr>
        <p:spPr>
          <a:xfrm rot="5400000">
            <a:off x="4272840" y="5203080"/>
            <a:ext cx="380880" cy="792000"/>
          </a:xfrm>
          <a:prstGeom prst="downArrow">
            <a:avLst>
              <a:gd name="adj1" fmla="val 50000"/>
              <a:gd name="adj2" fmla="val 24751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25772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ou have a graph of a linear relation with x-values from -10 to +10 plotted. You want to know the values of y for specific values of x.  For which values of x would you use the graphical form? the algebraic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sson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280" y="386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Relationships Among Big Ideas, Curriculum Expectations and Lesson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744640"/>
            <a:ext cx="809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Expect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3640" y="414972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sk 1:  You are given 3 lesson goals, 3 Big Ideas, and 3 consolidating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 which lesson goal connects to which Big Idea for this expectation and identify the appropriate consolidation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7 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7 = x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re easier to see the unknown value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Mathematics Coaching Cy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053480" cy="519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8360" y="2205000"/>
            <a:ext cx="2557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0308"/>
                </a:solidFill>
                <a:latin typeface="Arial"/>
              </a:rPr>
              <a:t>Establish norms for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5985000"/>
            <a:ext cx="2449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– 4 = 17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lly 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0.5 in disgu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easier to sol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someone say that solving an equation is about finding what easier question is being disgu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ONE of these two things: x = 2y = 20 OR 3x + 2 = 2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lets you figure out what x i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suggests that you triple a number and subtract if from 2. What equation would you solve to figure out the input if you know the output is 5?  How would you sol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19280" y="990720"/>
            <a:ext cx="77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900000" y="3537000"/>
            <a:ext cx="7417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ing at the Posing Powerful Questions Template (PPQT) as a t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B38A-225C-4573-A6FE-31756B0DE2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osing Powerfu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64F-E623-49DE-94A5-7B13AA2AB9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4221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81360"/>
            <a:ext cx="882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97360"/>
            <a:ext cx="89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24280"/>
            <a:ext cx="889308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97360"/>
            <a:ext cx="87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52640"/>
            <a:ext cx="8964720" cy="19083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79640" y="2149560"/>
            <a:ext cx="755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FD4-2C45-48FD-88E2-5D2661A736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ABB-882C-4BEE-A70D-38A66A2D69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92000" y="1052640"/>
            <a:ext cx="712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26920" y="2637000"/>
            <a:ext cx="7417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3E0-87E1-47D5-8229-776A2D2818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Whole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7632720" cy="5497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ons are intended to move the collecti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079640" y="2023920"/>
            <a:ext cx="7416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A1E-3E87-403E-8CEA-97621F57D8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3E39-4EF3-4688-B01F-584CB8281E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D6B-B484-4775-812B-48E74ACC25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E9C-865D-4346-9928-444DB5DAD8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4D6C-28CD-48F1-BE1C-15CD550C09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CED-0E87-4A53-88A2-295356DA36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150-B2FB-4BA1-B52D-64F3C0B645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1B0F-7554-4341-A428-51EFC5FA68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31640" y="404640"/>
            <a:ext cx="67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is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A713-C7EC-4DAC-8C47-31B5705994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00" y="1376280"/>
            <a:ext cx="892800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recognize when it’s useful to use generalization when describing a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5373720"/>
            <a:ext cx="896472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asoning is a way to understand mathematical relationships that apply to a large group of sit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2673360"/>
            <a:ext cx="8964720" cy="24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linear growing patterns, using a variety of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predictions about linear growing patterns, through investigation, with concret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pattern rules that generate a pattern by adding or subtracting a constant or multiply or dividing by a constant to get the next term with pattern rules that use the term number to describe the general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6000" y="1305000"/>
            <a:ext cx="8928000" cy="115236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337000"/>
            <a:ext cx="9144000" cy="10796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73360"/>
            <a:ext cx="9144000" cy="2448000"/>
          </a:xfrm>
          <a:prstGeom prst="rect">
            <a:avLst/>
          </a:prstGeom>
          <a:solidFill>
            <a:srgbClr val="ffff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025-9F4D-4CF0-AADC-3F9E67F7EA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Minds 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853920"/>
            <a:ext cx="7343640" cy="574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08000" y="2637000"/>
            <a:ext cx="2376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ig Ideas in Patterns &amp;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E14-C0B5-4C64-9F68-2EBCD63236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Ac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1F51-EC69-4761-A5E7-E252FA448F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Consolida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6364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Picture 1.pn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162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16000" y="45752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is 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someone figures out terms 3, 4, 5 and 6 might be very different from the way that person figures out term 100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6000" y="4400640"/>
            <a:ext cx="8748720" cy="2457360"/>
          </a:xfrm>
          <a:prstGeom prst="rect">
            <a:avLst/>
          </a:prstGeom>
          <a:solidFill>
            <a:srgbClr val="ffff99">
              <a:alpha val="3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971640" y="2744640"/>
            <a:ext cx="7416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2716-5CE5-4C61-8C16-D88910480D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719280" y="1413000"/>
            <a:ext cx="7799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D89-53AB-4E4B-B74F-25D35DC012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95280" y="62064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ask: Using the Posing Question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50920" y="2313000"/>
            <a:ext cx="8497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choose 1 of these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possible consolidat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7793-7596-4D83-8D43-E10DEC7553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79280" y="836640"/>
            <a:ext cx="83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Identify properties of linear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592280"/>
            <a:ext cx="8964720" cy="138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 recognize why any two points on a line can be used to determine the slope and how that can b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141720"/>
            <a:ext cx="892800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, through investigation, various formulas for the slope of a line segment or a line and use the formulas to determine the slope of a line segment or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110200"/>
            <a:ext cx="889308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6000" y="4329000"/>
            <a:ext cx="8712000" cy="174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ictures, numbers, words, or graphs and explain why it doesn’t matter if x-values are 1 apart or 2 apart or even 20 apart to calculate a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16000" y="4329000"/>
            <a:ext cx="8712000" cy="1937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 situation that a linear relation woul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how to change one thing about it so that a linear relation doesn’t work any more as 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ve to Breakout Roo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9800" y="2241720"/>
            <a:ext cx="332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Group A &amp; B </a:t>
            </a:r>
            <a:br>
              <a:rPr sz="3600"/>
            </a:b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(Liisa &amp; Lin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Room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60828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oup C &amp;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Trish &amp; Ch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om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61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fessional Learning for Mathematics Leaders and Coach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673000" y="44193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just a 3-part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27280" y="53737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ist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Small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341360"/>
            <a:ext cx="7632720" cy="50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one has a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on your colleagues’ expertise and offer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35892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eakout: Group A &amp;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03280" y="1341360"/>
            <a:ext cx="82454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oose a patterning/algebra lesson in the resource you brou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 to rewrite a lesson goal to focus on a ‘big idea’, and write one or more consolidat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the PPQT to record all of y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537-68EC-4FBD-8DB1-8F2BA542DF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5892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eakout: Group C &amp;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03280" y="148428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ner up (experienced vs new to coach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ct one of the lessons in the PPQ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e providing feedback on sample lesson goals and consolidation ques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35E3-D862-44CA-A196-B8B4CEB81E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63640" y="907920"/>
            <a:ext cx="693432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: In Board Tea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d receive feedback on sample lesson goals and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76360" y="3141720"/>
            <a:ext cx="421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728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Suggested ‘To Do’ Between Session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3672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Mathematics Coaching Cy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053480" cy="5197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808360" y="2205000"/>
            <a:ext cx="2557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0308"/>
                </a:solidFill>
                <a:latin typeface="Arial"/>
              </a:rPr>
              <a:t>Establish norms for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Professional Learning Protocols - Draft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1916280"/>
            <a:ext cx="8280360" cy="416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s for Building Supportive Coaching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/Co-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Lesson De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Developing Classroom Protoco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5640" y="1773360"/>
            <a:ext cx="5819760" cy="445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873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View and Discuss Opportunities Between Sess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097840" cy="311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95280" y="58770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dugains.ca/newsite/math/coachformath.htm#Professional_Learning_for_Mathematics_Leaders_and_Coaches_–_not_just_a_3_part_series_–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71640" y="540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aching for Math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95228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863640" y="620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719280" y="170028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3DC-E9B0-40D9-9E6E-58120BA555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19280" y="3213000"/>
            <a:ext cx="81738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one idea that came up that might change how you create lesson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things I’ve learned during today’s se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questions I still have about today’s se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 way I see this professional learning experience impacting my w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63640" y="51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3640" y="1592280"/>
            <a:ext cx="741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696F-B4D5-4225-910B-37018748A2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34920" y="4076640"/>
            <a:ext cx="7417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How could you convince someone the pattern grows slow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Information Systems</cp:lastModifiedBy>
  <dcterms:modified xsi:type="dcterms:W3CDTF">2009-10-14T15:21:42Z</dcterms:modified>
  <cp:revision>303</cp:revision>
  <dc:subject/>
  <dc:title>Slide 1</dc:title>
</cp:coreProperties>
</file>